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FDE-B689-48FA-B95E-A56405D8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C71-9E49-45E9-BDCC-C667AE3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D48-3A4C-4863-BFC1-5E7137B1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10C-9D3C-4ACE-BDFD-CF95D887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FB7-3C3D-4D2E-A093-06FC03F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4E1-D9FD-4784-A72E-96E40C07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814-EBA4-40CC-B57D-C3ABEFAE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DF0-DE23-4535-BCFB-DA0DAE5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9BC-839D-47B5-B66F-B4B8B7E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371-0EFD-4B78-B70C-92ACA56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7CF-1225-439A-9E89-79CC515E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95E-A142-4F44-AA91-8765ED9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C44-E939-426C-B142-A81C705D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’ rebellion: The failure that changed the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. Joe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aniel_shays-mdm"/>
          <p:cNvPicPr/>
          <p:nvPr/>
        </p:nvPicPr>
        <p:blipFill>
          <a:blip r:embed="rId1"/>
          <a:stretch/>
        </p:blipFill>
        <p:spPr>
          <a:xfrm>
            <a:off x="0" y="1447920"/>
            <a:ext cx="466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 will be able to state if the rebellion was success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onument_to_shays_rebell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20:27Z</dcterms:created>
  <dc:creator>Mount Lebanon School District</dc:creator>
  <dc:description/>
  <dc:language>en-US</dc:language>
  <cp:lastModifiedBy>janderson85</cp:lastModifiedBy>
  <dcterms:modified xsi:type="dcterms:W3CDTF">2010-12-02T16:05:29Z</dcterms:modified>
  <cp:revision>3</cp:revision>
  <dc:subject/>
  <dc:title>Shays’ rebellion: The failure that changed the colonies</dc:title>
</cp:coreProperties>
</file>